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bear.wav" ContentType="audio/x-wav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549D-AD2A-415A-9E17-197252561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EF27-9F93-4BE3-9224-775A7C1AFF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E28C-8A60-48D4-B367-42D717F2F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ould re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7E8-E10E-4C34-96B1-BABE35ED7A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72D6-5132-4EC7-A942-B12205EA4D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71B0-A35C-4B98-A4F7-94D9F7FEAF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8D11-164A-4FCB-9DEF-C5CF82C830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10BA-61B4-4615-A152-F29F1851D9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AF0-2954-4245-A2FB-FF3F8F8C03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 sound from http://www.brandens.net/snd_list.php?cat=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D078-52A5-4A22-A710-6CF83F90C8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955-DF22-4C9A-AD5D-3D67640D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41E-F372-48E2-AC46-9380316E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18F-12E6-4EBD-BADB-9DED50A6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6EC-9B6E-4104-AE4A-676CA7D1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519-59BE-4609-A256-A860DCE7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7A5-DBD8-4DC1-BF4A-FE0EEB51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50D-008B-443A-B771-CB6746AF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864-022D-4D3B-94A0-F7DA2530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046-4B4A-41B1-ACB0-3E88511F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DAD-0331-482F-B31A-B805E144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59D-2459-40FB-87D1-D079989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0DA-640A-47CB-9468-E4D0CEC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25F1-8CAF-4872-B20D-BB686B1F86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bear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were starving but decided to make the long drive home because the choices at the food court would have poisoned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were starving but decided to make the long drive home because the choices at the food court would have poison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were starving but decided to make the long drive home because the choices at the food court would have poison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808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day you can buy fried chicken in minutes at 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fast food drive-thru. But in the 1800s, you ha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 slaughter, pluck, and cook the bird herself t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erve chicken for dinn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a wo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oursel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380880" y="1523880"/>
            <a:ext cx="83059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day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can buy fried chicken in minutes at 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fast food drive-thru. But in the 1800s,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ha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 slaughter, pluck, and cook the bird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self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erve chicken for dinn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a wo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oursel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380880" y="1523880"/>
            <a:ext cx="83059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day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can buy fried chicken in minutes at 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fast food drive-thru. But in the 1800s,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 woma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ha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 slaughter, pluck, and cook the bird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self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erve chicken for dinn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  <a:ea typeface="Arial"/>
              </a:rPr>
              <a:t>a wo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oursel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33520" y="1752480"/>
            <a:ext cx="80769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a student has disappointed a professor, you can always try smiling in class or offering a compliment to get back on the teacher’s good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s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533520" y="1752480"/>
            <a:ext cx="8076960" cy="4419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student 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appointed a professor, you can always try smiling in class or offering a compliment to get back on the teacher’s good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s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33520" y="1752480"/>
            <a:ext cx="8076960" cy="4419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student 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appointed a professor, you can always try smiling in class or offering a compliment to get back on the teacher’s good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s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you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hletes need to stay hydrated. They can cho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in water from a fountain, but you might prefer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nk that adds electrolytes so that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ance is opt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hletes need to stay hydrated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cho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in water from a fountain, bu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prefer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nk that adds electrolytes so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ance is opt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hletes need to stay hydrated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cho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in water from a fountain, bu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prefer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nk that adds electrolytes so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ance is opt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33520" y="1828800"/>
            <a:ext cx="80769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itz refuses to buy books until after the semester has begun. The texts professors require on the syllabus are often not necessary for your success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33520" y="1828800"/>
            <a:ext cx="8076960" cy="4419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itz refuses to buy books until after the semester has begun. The texts professors require on the syllabus are often not necessary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uccess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33520" y="1828800"/>
            <a:ext cx="8076960" cy="4419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itz refuses to buy books until after the semester has begun. The texts professors require on the syllabus are often not necessary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uccess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refuse to drive on the interstate at rush hour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 many drivers are whipping in and out of la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eless about how their behavior affects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should 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 ref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drive on the interstate at rush hou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 many drivers are whipping in and out of la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eless about ho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ehavior affect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should 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 ref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drive on the interstate at rush hou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 many drivers are whipping in and out of la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eless about ho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ehavior affect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should 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you are daring, try this bacon-maple ice cream sundae that I made. The combination of salty and sweet might appeal to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you are daring, try this bacon-maple ice cream sundae that I made. The combination of salty and sweet might appeal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you are daring, try this bacon-maple ice cream sundae that I made. The combination of salty and sweet might appeal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can fix your money problems with a litt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ncial discipline. You must pay yourself fir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ting a few dollars into savings before tack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y of the other b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fix your money problems with a litt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ncial discipline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ust pa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sel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ir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ting a few dollars into savings before tack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y of the other b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fix your money problems with a litt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ncial discipline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ust pa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sel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ir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ting a few dollars into savings before tack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y of the other b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lcolm and Dwayne are in competition for Yolanda’s love. Buying flowers would win you a woman’s af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lcolm and Dwayne are in competition for Yolanda’s love. Buying flowers would w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woman’s af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lcolm and Dwayne are in competition for Yolanda’s love. Buying flowers would w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woman’s af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ional race car drivers listen closely to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gines. You can anticipate performanc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riations based on sounds a regular driver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ional race car drivers listen closely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gine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anticipate performan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riations based on sound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regular dri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ional race car drivers listen closely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gines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anticipate performan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riations based on sound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regular dri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lookout.jpg"/>
          <p:cNvPicPr/>
          <p:nvPr/>
        </p:nvPicPr>
        <p:blipFill>
          <a:blip r:embed="rId1"/>
          <a:stretch/>
        </p:blipFill>
        <p:spPr>
          <a:xfrm>
            <a:off x="2743200" y="1971720"/>
            <a:ext cx="3048120" cy="4757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onoun Shif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ounded Rectangular Callout 7"/>
          <p:cNvSpPr/>
          <p:nvPr/>
        </p:nvSpPr>
        <p:spPr>
          <a:xfrm>
            <a:off x="457200" y="2666880"/>
            <a:ext cx="2133720" cy="1524240"/>
          </a:xfrm>
          <a:prstGeom prst="wedgeRoundRectCallout">
            <a:avLst>
              <a:gd name="adj1" fmla="val 138888"/>
              <a:gd name="adj2" fmla="val -3756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mea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read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ounded Rectangular Callout 8"/>
          <p:cNvSpPr/>
          <p:nvPr/>
        </p:nvSpPr>
        <p:spPr>
          <a:xfrm>
            <a:off x="6248520" y="3048120"/>
            <a:ext cx="2666880" cy="1904760"/>
          </a:xfrm>
          <a:prstGeom prst="wedgeRoundRectCallout">
            <a:avLst>
              <a:gd name="adj1" fmla="val -96912"/>
              <a:gd name="adj2" fmla="val -5211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am I talking abou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omeone el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9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bookgirl.jpg"/>
          <p:cNvPicPr/>
          <p:nvPr/>
        </p:nvPicPr>
        <p:blipFill>
          <a:blip r:embed="rId1"/>
          <a:stretch/>
        </p:blipFill>
        <p:spPr>
          <a:xfrm>
            <a:off x="4267080" y="533520"/>
            <a:ext cx="2971800" cy="613548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ular Callout 2"/>
          <p:cNvSpPr/>
          <p:nvPr/>
        </p:nvSpPr>
        <p:spPr>
          <a:xfrm>
            <a:off x="914400" y="1905120"/>
            <a:ext cx="2514600" cy="3962160"/>
          </a:xfrm>
          <a:prstGeom prst="wedgeRoundRectCallout">
            <a:avLst>
              <a:gd name="adj1" fmla="val 139314"/>
              <a:gd name="adj2" fmla="val -5905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nsist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pronou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oint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-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f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-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16256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shif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50640"/>
            <a:ext cx="792504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ordered with care at the expens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taurant because you don’t want the sh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not having enough money to pay our b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should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did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 orde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care at the expens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taurant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 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ant the sh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not having enough money to pa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should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did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 orde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care at the expens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taurant becaus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e di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ant the sh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not having enough money to pa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should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e did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7" descr="lookup.jpg"/>
          <p:cNvPicPr/>
          <p:nvPr/>
        </p:nvPicPr>
        <p:blipFill>
          <a:blip r:embed="rId1"/>
          <a:stretch/>
        </p:blipFill>
        <p:spPr>
          <a:xfrm>
            <a:off x="5181480" y="3962520"/>
            <a:ext cx="997200" cy="281916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ular Callout 18"/>
          <p:cNvSpPr/>
          <p:nvPr/>
        </p:nvSpPr>
        <p:spPr>
          <a:xfrm>
            <a:off x="6781680" y="4419720"/>
            <a:ext cx="2210040" cy="1676160"/>
          </a:xfrm>
          <a:prstGeom prst="wedgeRoundRectCallout">
            <a:avLst>
              <a:gd name="adj1" fmla="val -98671"/>
              <a:gd name="adj2" fmla="val -4229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e orde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you do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ou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ounded Rectangular Callout 19"/>
          <p:cNvSpPr/>
          <p:nvPr/>
        </p:nvSpPr>
        <p:spPr>
          <a:xfrm>
            <a:off x="6781680" y="4419720"/>
            <a:ext cx="2210040" cy="1676160"/>
          </a:xfrm>
          <a:prstGeom prst="wedgeRoundRectCallout">
            <a:avLst>
              <a:gd name="adj1" fmla="val -97296"/>
              <a:gd name="adj2" fmla="val -4138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You don’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shift in person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r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7" descr="mountainclimbing.jpg"/>
          <p:cNvPicPr/>
          <p:nvPr/>
        </p:nvPicPr>
        <p:blipFill>
          <a:blip r:embed="rId1"/>
          <a:stretch/>
        </p:blipFill>
        <p:spPr>
          <a:xfrm>
            <a:off x="548640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wna refuses to try mountain climbing because  you  can get stuck in a blizzard and freeze to death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1371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on’t </a:t>
            </a:r>
            <a:r>
              <a:rPr b="0" i="1" lang="en-US" sz="3600" spc="-1" strike="noStrike">
                <a:solidFill>
                  <a:srgbClr val="ffc000"/>
                </a:solidFill>
                <a:latin typeface="Arial Black"/>
              </a:rPr>
              <a:t>Mix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Pronoun Persons.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16" descr="think.jpg"/>
          <p:cNvPicPr/>
          <p:nvPr/>
        </p:nvPicPr>
        <p:blipFill>
          <a:blip r:embed="rId2"/>
          <a:stretch/>
        </p:blipFill>
        <p:spPr>
          <a:xfrm>
            <a:off x="3549600" y="3733920"/>
            <a:ext cx="1824120" cy="3124080"/>
          </a:xfrm>
          <a:prstGeom prst="rect">
            <a:avLst/>
          </a:prstGeom>
          <a:ln w="0">
            <a:noFill/>
          </a:ln>
        </p:spPr>
      </p:pic>
      <p:sp>
        <p:nvSpPr>
          <p:cNvPr id="108" name="Rounded Rectangular Callout 9"/>
          <p:cNvSpPr/>
          <p:nvPr/>
        </p:nvSpPr>
        <p:spPr>
          <a:xfrm>
            <a:off x="152280" y="4419720"/>
            <a:ext cx="2895840" cy="2133360"/>
          </a:xfrm>
          <a:prstGeom prst="wedgeRoundRectCallout">
            <a:avLst>
              <a:gd name="adj1" fmla="val 83032"/>
              <a:gd name="adj2" fmla="val -4921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re the one who froze, I’d b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ok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mountain climb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ounded Rectangular Callout 19"/>
          <p:cNvSpPr/>
          <p:nvPr/>
        </p:nvSpPr>
        <p:spPr>
          <a:xfrm>
            <a:off x="4724280" y="3809880"/>
            <a:ext cx="2362320" cy="838440"/>
          </a:xfrm>
          <a:prstGeom prst="wedgeRoundRectCallout">
            <a:avLst>
              <a:gd name="adj1" fmla="val 75462"/>
              <a:gd name="adj2" fmla="val 1712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Grizz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0" descr="bear.jpg"/>
          <p:cNvPicPr/>
          <p:nvPr/>
        </p:nvPicPr>
        <p:blipFill>
          <a:blip r:embed="rId3"/>
          <a:srcRect l="0" t="0" r="0" b="29824"/>
          <a:stretch/>
        </p:blipFill>
        <p:spPr>
          <a:xfrm>
            <a:off x="6781680" y="4952880"/>
            <a:ext cx="1581120" cy="1905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2"/>
          <p:cNvSpPr/>
          <p:nvPr/>
        </p:nvSpPr>
        <p:spPr>
          <a:xfrm>
            <a:off x="2286000" y="2362320"/>
            <a:ext cx="914400" cy="457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741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241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401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401"/>
                            </p:stCondLst>
                            <p:childTnLst>
                              <p:par>
                                <p:cTn id="11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901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onoun Persons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236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irst Pers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, m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ur, 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004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econd Pers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, y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self, y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Content Placeholder 3"/>
          <p:cNvSpPr/>
          <p:nvPr/>
        </p:nvSpPr>
        <p:spPr>
          <a:xfrm>
            <a:off x="6095880" y="1600200"/>
            <a:ext cx="2667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hir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m,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s, hers,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standing.jpg"/>
          <p:cNvPicPr/>
          <p:nvPr/>
        </p:nvPicPr>
        <p:blipFill>
          <a:blip r:embed="rId1"/>
          <a:stretch/>
        </p:blipFill>
        <p:spPr>
          <a:xfrm>
            <a:off x="4591080" y="4419720"/>
            <a:ext cx="857160" cy="2438280"/>
          </a:xfrm>
          <a:prstGeom prst="rect">
            <a:avLst/>
          </a:prstGeom>
          <a:ln w="0">
            <a:noFill/>
          </a:ln>
        </p:spPr>
      </p:pic>
      <p:sp>
        <p:nvSpPr>
          <p:cNvPr id="117" name="Rounded Rectangular Callout 6"/>
          <p:cNvSpPr/>
          <p:nvPr/>
        </p:nvSpPr>
        <p:spPr>
          <a:xfrm>
            <a:off x="2209680" y="4724280"/>
            <a:ext cx="1828800" cy="914400"/>
          </a:xfrm>
          <a:prstGeom prst="wedgeRoundRectCallout">
            <a:avLst>
              <a:gd name="adj1" fmla="val 92777"/>
              <a:gd name="adj2" fmla="val -32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now your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person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5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5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5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15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65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15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65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25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5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25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85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5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25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75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25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85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-person pronouns must refer to the reader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ubtitle 2"/>
          <p:cNvSpPr/>
          <p:nvPr/>
        </p:nvSpPr>
        <p:spPr>
          <a:xfrm>
            <a:off x="1066680" y="1905120"/>
            <a:ext cx="7010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must study to do well on your test. Preparation is the key to your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990720" y="1905120"/>
            <a:ext cx="716256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st study to do well on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. Preparation is the key to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greet.jpg"/>
          <p:cNvPicPr/>
          <p:nvPr/>
        </p:nvPicPr>
        <p:blipFill>
          <a:blip r:embed="rId1"/>
          <a:stretch/>
        </p:blipFill>
        <p:spPr>
          <a:xfrm>
            <a:off x="5029200" y="2819520"/>
            <a:ext cx="2662200" cy="396216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ular Callout 10"/>
          <p:cNvSpPr/>
          <p:nvPr/>
        </p:nvSpPr>
        <p:spPr>
          <a:xfrm>
            <a:off x="1295280" y="4114800"/>
            <a:ext cx="2514600" cy="1981080"/>
          </a:xfrm>
          <a:prstGeom prst="wedgeRoundRectCallout">
            <a:avLst>
              <a:gd name="adj1" fmla="val 136370"/>
              <a:gd name="adj2" fmla="val -5921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is means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read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showmegirl.jpg"/>
          <p:cNvPicPr/>
          <p:nvPr/>
        </p:nvPicPr>
        <p:blipFill>
          <a:blip r:embed="rId1"/>
          <a:stretch/>
        </p:blipFill>
        <p:spPr>
          <a:xfrm>
            <a:off x="2743200" y="3678120"/>
            <a:ext cx="1857240" cy="3179880"/>
          </a:xfrm>
          <a:prstGeom prst="rect">
            <a:avLst/>
          </a:prstGeom>
          <a:ln w="0">
            <a:noFill/>
          </a:ln>
        </p:spPr>
      </p:pic>
      <p:sp>
        <p:nvSpPr>
          <p:cNvPr id="126" name="Rounded Rectangular Callout 6"/>
          <p:cNvSpPr/>
          <p:nvPr/>
        </p:nvSpPr>
        <p:spPr>
          <a:xfrm>
            <a:off x="5715000" y="4495680"/>
            <a:ext cx="2133720" cy="1752840"/>
          </a:xfrm>
          <a:prstGeom prst="wedgeRoundRectCallout">
            <a:avLst>
              <a:gd name="adj1" fmla="val -155361"/>
              <a:gd name="adj2" fmla="val -4944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451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951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</dc:description>
  <cp:keywords>pronouns pronoun shift grammar Grammar Bytes! Robin L. Simmons</cp:keywords>
  <dc:language>en-US</dc:language>
  <cp:lastModifiedBy>RSimmons</cp:lastModifiedBy>
  <dcterms:modified xsi:type="dcterms:W3CDTF">2010-01-04T18:34:44Z</dcterms:modified>
  <cp:revision>244</cp:revision>
  <dc:subject/>
  <dc:title>Pronoun Shift</dc:title>
</cp:coreProperties>
</file>